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14C67-D8B0-4C02-A23E-B0C8933E9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83150-1A1D-432F-993E-8978446DE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C77B9-D105-4DC8-BE69-8EC3D7AD0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AA862-0844-436A-81A3-B702C038D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AF9C2-AFA1-4232-8D8D-DA80D5E00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8193A-3E59-4BF8-B985-E09B9C800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4FD8A-2404-4F24-9D73-138820923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8809C-24B6-4CB3-B832-1F52FFCD9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10AB2-53B9-412B-8AA2-2D9A1B755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28523-B9BB-45C6-9EF1-27146781F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EE76E-7C0E-4AE6-8643-F08B91BC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3DCB7-F803-4A04-B440-6A07ED988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ED93B-AA2C-42CC-BA35-5C3B1BD7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6E1C8-A18D-4C32-8100-9C0BCD8D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4E8A5-633C-4241-9F98-9B36E2F1A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85117-EFCD-4118-9878-6C16CD498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7B68D-B1B9-4C46-B8E8-95C29D26E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0BD76-3D75-4168-A569-9B8D5AB5F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1436B-1255-4A2E-B4C3-14DE27D1A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996E9-EFDC-4954-804A-453028CCB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50C3D-6ECF-4BD1-B639-91A7B3EEA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2A92E-03FD-4CF3-8EBA-7FAAED73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B705A-484B-4C9B-A24E-95D6586F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4900B-1A5C-49CD-B02A-520EE285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7CE38-B8A8-48AA-9345-1AAA6B4F43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5EB8C-4C65-46E6-AB7E-C58E16AC77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eaking Autokey-Plaintext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536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ing the Autokey-Plain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not as easy to break as the autokey-ciphertext but . . 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Kasiski-like method exists to determine the “group length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roup-length is the actual keyword length but since the keyword is not repeated, the group-length describes the length of segments of the running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segments define the distance between a plaintext letter being enciphered and becoming a key l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ECD99-020B-4ABF-93F0-C1526E0ADE2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up Leng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example, if the keyword is “alice” a possible cipher structure could be given 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04480" y="4595760"/>
            <a:ext cx="725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 h i s i s a n e x a m p l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85400" y="4133880"/>
            <a:ext cx="725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Courier New"/>
              </a:rPr>
              <a:t>a l i c e t h i s i s a n e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68280" y="4570560"/>
            <a:ext cx="2161800" cy="1532880"/>
            <a:chOff x="368280" y="4570560"/>
            <a:chExt cx="2161800" cy="1532880"/>
          </a:xfrm>
        </p:grpSpPr>
        <p:sp>
          <p:nvSpPr>
            <p:cNvPr id="120" name=""/>
            <p:cNvSpPr/>
            <p:nvPr/>
          </p:nvSpPr>
          <p:spPr>
            <a:xfrm>
              <a:off x="957240" y="4570560"/>
              <a:ext cx="685800" cy="6570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68280" y="5643720"/>
              <a:ext cx="216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t is encipher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3208320" y="4094280"/>
            <a:ext cx="2148120" cy="2052000"/>
            <a:chOff x="3208320" y="4094280"/>
            <a:chExt cx="2148120" cy="2052000"/>
          </a:xfrm>
        </p:grpSpPr>
        <p:sp>
          <p:nvSpPr>
            <p:cNvPr id="123" name=""/>
            <p:cNvSpPr/>
            <p:nvPr/>
          </p:nvSpPr>
          <p:spPr>
            <a:xfrm>
              <a:off x="3381480" y="4094280"/>
              <a:ext cx="685800" cy="6570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66ff"/>
                  </a:solidFill>
                  <a:latin typeface="Courier New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208320" y="5686560"/>
              <a:ext cx="21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t is a key lett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257480" y="3571920"/>
            <a:ext cx="2438280" cy="641160"/>
            <a:chOff x="1257480" y="3571920"/>
            <a:chExt cx="2438280" cy="641160"/>
          </a:xfrm>
        </p:grpSpPr>
        <p:sp>
          <p:nvSpPr>
            <p:cNvPr id="126" name=""/>
            <p:cNvSpPr/>
            <p:nvPr/>
          </p:nvSpPr>
          <p:spPr>
            <a:xfrm>
              <a:off x="1257480" y="3741840"/>
              <a:ext cx="0" cy="4712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695760" y="3722760"/>
              <a:ext cx="0" cy="471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357200" y="3941640"/>
              <a:ext cx="22575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310120" y="3571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4DA14-FF12-466D-8EC9-FE5A0B37641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75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ing the Group Leng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15400" cy="26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possible to discover the group length from the cipher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the group length is 5 then every plaintext letter will be enciphered by the letter 5 positions to its left and in turn will encipher the letter 5 positions to its r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plaintext has a lot of repeated characters there will be an unusually large number of identical letters separated by the group lengt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4735440"/>
            <a:ext cx="621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Key:     . . . R . . .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aintext:     . . . S . . .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iphertext:     . . . J . . .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5251320" y="4803840"/>
            <a:ext cx="1793880" cy="709560"/>
            <a:chOff x="5251320" y="4803840"/>
            <a:chExt cx="1793880" cy="709560"/>
          </a:xfrm>
        </p:grpSpPr>
        <p:sp>
          <p:nvSpPr>
            <p:cNvPr id="134" name=""/>
            <p:cNvSpPr/>
            <p:nvPr/>
          </p:nvSpPr>
          <p:spPr>
            <a:xfrm>
              <a:off x="5251320" y="5167440"/>
              <a:ext cx="336240" cy="34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708600" y="4803840"/>
              <a:ext cx="336600" cy="34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5587560" y="5051160"/>
              <a:ext cx="1092240" cy="21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5499000" y="4667400"/>
            <a:ext cx="3470400" cy="1191240"/>
            <a:chOff x="5499000" y="4667400"/>
            <a:chExt cx="3470400" cy="1191240"/>
          </a:xfrm>
        </p:grpSpPr>
        <p:sp>
          <p:nvSpPr>
            <p:cNvPr id="138" name=""/>
            <p:cNvSpPr/>
            <p:nvPr/>
          </p:nvSpPr>
          <p:spPr>
            <a:xfrm>
              <a:off x="6707160" y="5165640"/>
              <a:ext cx="355680" cy="3556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99000" y="5024520"/>
              <a:ext cx="119880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15400" y="4667400"/>
              <a:ext cx="1854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There is a go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chance that th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kind of event wi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occ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383080" y="5823000"/>
            <a:ext cx="1499040" cy="455760"/>
            <a:chOff x="5383080" y="5823000"/>
            <a:chExt cx="1499040" cy="455760"/>
          </a:xfrm>
        </p:grpSpPr>
        <p:sp>
          <p:nvSpPr>
            <p:cNvPr id="142" name=""/>
            <p:cNvSpPr/>
            <p:nvPr/>
          </p:nvSpPr>
          <p:spPr>
            <a:xfrm>
              <a:off x="5410440" y="5823000"/>
              <a:ext cx="0" cy="2840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37440" y="5919840"/>
              <a:ext cx="139356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877080" y="5824440"/>
              <a:ext cx="0" cy="2844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383080" y="5910480"/>
              <a:ext cx="149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Group leng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7A56D-2B92-4A0E-BB8A-7364BACB622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5786280" cy="24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he distances between all letter repetit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st common distances are strong candidates for the group-length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 will automatically calculate these distan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584680" y="3376440"/>
            <a:ext cx="2571840" cy="302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3B98A-B3EC-4E58-BAD7-E3E62B76B9C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he Group Leng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36320" y="2055600"/>
            <a:ext cx="8250120" cy="26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ledge of the group length reveals how the plaintext is divided into seg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group length is 5, then the first segment consists of every 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etter beginning with the first lett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know the encipher chain for this segment, for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06120" y="5154480"/>
            <a:ext cx="725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 h i s i s a n e x a m p l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96760" y="4692600"/>
            <a:ext cx="725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Courier New"/>
              </a:rPr>
              <a:t>a l i c e t h i s i s a n e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41040" y="5626080"/>
            <a:ext cx="725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urier New"/>
              </a:rPr>
              <a:t>t s q u m l h v w f s m c p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893880" y="5019480"/>
            <a:ext cx="2547360" cy="586080"/>
            <a:chOff x="893880" y="5019480"/>
            <a:chExt cx="2547360" cy="586080"/>
          </a:xfrm>
        </p:grpSpPr>
        <p:sp>
          <p:nvSpPr>
            <p:cNvPr id="155" name=""/>
            <p:cNvSpPr/>
            <p:nvPr/>
          </p:nvSpPr>
          <p:spPr>
            <a:xfrm>
              <a:off x="893880" y="5203800"/>
              <a:ext cx="401400" cy="4017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1303200" y="5019480"/>
              <a:ext cx="2138040" cy="33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788080" y="5259240"/>
            <a:ext cx="401760" cy="4017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354480" y="5010120"/>
            <a:ext cx="2555280" cy="622440"/>
            <a:chOff x="3354480" y="5010120"/>
            <a:chExt cx="2555280" cy="622440"/>
          </a:xfrm>
        </p:grpSpPr>
        <p:sp>
          <p:nvSpPr>
            <p:cNvPr id="159" name=""/>
            <p:cNvSpPr/>
            <p:nvPr/>
          </p:nvSpPr>
          <p:spPr>
            <a:xfrm>
              <a:off x="3354480" y="5230800"/>
              <a:ext cx="401400" cy="4017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787560" y="5010120"/>
              <a:ext cx="2122200" cy="35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903240" y="5694480"/>
            <a:ext cx="434880" cy="4348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346560" y="5678640"/>
            <a:ext cx="434880" cy="4348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807160" y="5697360"/>
            <a:ext cx="434880" cy="4352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A4879-5899-4545-9283-DDC23838CF8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75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ute Force Att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70760" cy="17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use a brute force attack because each segment is defined by its beginning character (which is from the key word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036440" y="3916440"/>
            <a:ext cx="759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Ciphertext (known)    Key character (unknown)   plaintext (unknow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824480" y="4197240"/>
            <a:ext cx="52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t                            ?                         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33480" y="4583160"/>
            <a:ext cx="52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l                            ?                         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01440" y="5016600"/>
            <a:ext cx="53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                            ?                         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4280040" y="3500280"/>
            <a:ext cx="1342800" cy="1148760"/>
            <a:chOff x="4280040" y="3500280"/>
            <a:chExt cx="1342800" cy="1148760"/>
          </a:xfrm>
        </p:grpSpPr>
        <p:sp>
          <p:nvSpPr>
            <p:cNvPr id="171" name=""/>
            <p:cNvSpPr/>
            <p:nvPr/>
          </p:nvSpPr>
          <p:spPr>
            <a:xfrm>
              <a:off x="4280040" y="418932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681440" y="3500280"/>
              <a:ext cx="941400" cy="647640"/>
            </a:xfrm>
            <a:prstGeom prst="wedgeRoundRectCallout">
              <a:avLst>
                <a:gd name="adj1" fmla="val -44773"/>
                <a:gd name="adj2" fmla="val 70097"/>
                <a:gd name="adj3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u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6755760" y="4179960"/>
            <a:ext cx="2660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4308120" y="4397400"/>
            <a:ext cx="2370600" cy="626400"/>
            <a:chOff x="4308120" y="4397400"/>
            <a:chExt cx="2370600" cy="626400"/>
          </a:xfrm>
        </p:grpSpPr>
        <p:sp>
          <p:nvSpPr>
            <p:cNvPr id="175" name=""/>
            <p:cNvSpPr/>
            <p:nvPr/>
          </p:nvSpPr>
          <p:spPr>
            <a:xfrm flipH="1">
              <a:off x="4662720" y="4397400"/>
              <a:ext cx="2016000" cy="37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308120" y="4564080"/>
              <a:ext cx="2660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4287960" y="4956120"/>
            <a:ext cx="2788560" cy="551880"/>
            <a:chOff x="4287960" y="4956120"/>
            <a:chExt cx="2788560" cy="551880"/>
          </a:xfrm>
        </p:grpSpPr>
        <p:sp>
          <p:nvSpPr>
            <p:cNvPr id="178" name=""/>
            <p:cNvSpPr/>
            <p:nvPr/>
          </p:nvSpPr>
          <p:spPr>
            <a:xfrm>
              <a:off x="6726600" y="495612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287960" y="5048280"/>
              <a:ext cx="333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4295160" y="4578480"/>
            <a:ext cx="2749680" cy="459720"/>
            <a:chOff x="4295160" y="4578480"/>
            <a:chExt cx="2749680" cy="459720"/>
          </a:xfrm>
        </p:grpSpPr>
        <p:sp>
          <p:nvSpPr>
            <p:cNvPr id="181" name=""/>
            <p:cNvSpPr/>
            <p:nvPr/>
          </p:nvSpPr>
          <p:spPr>
            <a:xfrm>
              <a:off x="4295160" y="4578480"/>
              <a:ext cx="2660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711840" y="4578480"/>
              <a:ext cx="333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4307040" y="4822920"/>
            <a:ext cx="2442960" cy="658080"/>
            <a:chOff x="4307040" y="4822920"/>
            <a:chExt cx="2442960" cy="658080"/>
          </a:xfrm>
        </p:grpSpPr>
        <p:sp>
          <p:nvSpPr>
            <p:cNvPr id="184" name=""/>
            <p:cNvSpPr/>
            <p:nvPr/>
          </p:nvSpPr>
          <p:spPr>
            <a:xfrm flipH="1">
              <a:off x="4751280" y="4822920"/>
              <a:ext cx="1998720" cy="37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307040" y="5021280"/>
              <a:ext cx="333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1360440" y="4466880"/>
            <a:ext cx="2921040" cy="1806120"/>
            <a:chOff x="1360440" y="4466880"/>
            <a:chExt cx="2921040" cy="1806120"/>
          </a:xfrm>
        </p:grpSpPr>
        <p:sp>
          <p:nvSpPr>
            <p:cNvPr id="187" name=""/>
            <p:cNvSpPr/>
            <p:nvPr/>
          </p:nvSpPr>
          <p:spPr>
            <a:xfrm>
              <a:off x="1360440" y="5813280"/>
              <a:ext cx="26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ry all 26 guess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3038400" y="4466880"/>
              <a:ext cx="1243080" cy="14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5516640" y="5371920"/>
            <a:ext cx="2940840" cy="1489320"/>
            <a:chOff x="5516640" y="5371920"/>
            <a:chExt cx="2940840" cy="1489320"/>
          </a:xfrm>
        </p:grpSpPr>
        <p:sp>
          <p:nvSpPr>
            <p:cNvPr id="190" name=""/>
            <p:cNvSpPr/>
            <p:nvPr/>
          </p:nvSpPr>
          <p:spPr>
            <a:xfrm>
              <a:off x="5516640" y="6035760"/>
              <a:ext cx="2940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Use a low frequency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haracter te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6900840" y="5371920"/>
              <a:ext cx="0" cy="73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D99B2-DDA8-4AEF-8600-3BBE92A7B97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24T03:28:15Z</dcterms:modified>
  <cp:revision>64</cp:revision>
  <dc:subject/>
  <dc:title>CAP Cryptographic Analysis Program</dc:title>
</cp:coreProperties>
</file>